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2AD-EFCC-4526-B2B7-3759D409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C09-B615-4483-9AC4-CCC518CA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F7277-93B8-4AE4-B3F2-D0E7A56A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D58B1-0268-4C7B-9DA3-F7D065C9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CCFCB-27D3-420D-8E56-99B3AC64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EDDA3-4045-4A63-BF2D-B4710338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F060C-56EB-49F2-98A8-1061E1E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0CB93-B058-4DC3-BC8E-6B5E35F0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7E696-3739-4C98-9CAC-BEA39273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89D9E-19E0-470B-8795-24E24603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CC4F7-6911-4734-838B-5ABBE277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3A05A-5D00-42FE-82C6-91E4E172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B2B-0EEC-4D91-9002-D94090B0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15652-2392-46D6-AF05-5B6FED66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1A640-0AEF-4FE6-B899-825B5F0F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90C7A-C06E-43E9-AE88-7C049827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70DE1-9CC6-49F8-BF63-897EE74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23EF5-538C-4D90-B550-C402B322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F84CB-BF14-4A2D-9A2F-A46A40AE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E90C7-38B0-4CBA-A698-D27FF13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E2331-2961-4D99-91D9-82A68575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C75C7-C0C8-4F3F-BD6D-196C683E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0C770-99AA-456F-A1CA-92726B2F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6B5-0D12-49CD-8BBF-06C6A9AD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442D0-CD18-4BE0-83E2-03A3031B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5EE2D-62F1-4BA4-9274-C90FEEFF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DA72C-CDD6-4435-A9D8-9B96AC6B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8D648-8A80-4DC6-8B33-F11D91B0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F3974-85E5-415F-8ECA-AA7562D4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088FE-528E-4720-8A0F-AE780AAD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86B05-27E3-4C72-9ACD-84571AAA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9BCBD-9829-4F38-B867-578FA2F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C9E6C-8102-4D86-86DC-F2079D5F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3B706-0F92-43B1-B61E-4A991163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B930-F676-49B0-9D0D-6F563C92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D0D18-25A2-4414-B036-5E41FEA5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EC6A7-92BD-429B-8695-94A6FA26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23D54-04BC-4B54-B693-E3A6A0EA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E6D44-AB71-42E2-A4E2-2F172CA7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8C71D-5981-46D5-A50B-846EE158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EFFA0-B506-429C-8A12-493D20E4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95585-3574-4662-AA01-4355372C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B9D21-54F5-4153-AC36-4789737F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34BF0-6A63-47FF-9BEA-7E0A11DE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71A08-4BD0-4B48-9321-2F810B44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8074-887F-4D54-9C57-ECD3D9E9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E790B-2814-4EAF-B368-552A7E1B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E0963-7D53-4F8C-A8B1-1BA7A37A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6035C-4AD3-4736-AFAE-1A7E4276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1052B-8C7B-425A-BD01-AAAE49D5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AC47D-2DDE-4EE6-8EA4-FFB0FC2F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C3E5-93A4-463F-90B2-F7E10728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0DEA-5F24-44E3-AA30-E6931876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0F90-81AA-4BD8-8523-783BE8EA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6814-72E6-47A4-9A37-406F13A1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7907-44C5-43AD-BF9D-5D99D08F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619-EC37-43D2-B513-B28A9882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D000-E465-4D1B-A24A-6484DB5B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222C-A8C9-486B-BFC4-A28B6962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8E0F-6B0D-4882-B1EA-5818ABF4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E9F0-E62A-4672-8A54-D6755DAA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21A4-8CB2-4F96-B904-A1C1C4AC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F832-ED8F-40A8-9502-1A87F8C2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CD78-EF33-4584-A4B7-3A3EFA29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6D92-3ED2-40F2-9C93-D26D3D83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80B6-F536-47F2-B3D4-CAD1F7D8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14FE-AC21-4195-ABA0-109A32E2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403-C095-4440-9A8E-8D08701C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FC0CA-7DAC-42C2-B24F-CCF15644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F435-70AE-4D1C-B9CA-E92AA5F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3894-B12A-4339-BB83-EA7A9A75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E4165-F829-4B7A-82F8-A50247B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D395-7A6D-4EC2-8D4E-D92F8EC7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012C-037D-4562-83ED-974A4221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179F0-F252-4206-A430-8D70F8C7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6809-C8DF-4D86-B32E-3DE93E4F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38D05-80B2-461D-BFCF-FFDED651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2A1D6-AD2C-4B50-9863-C4C103C8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61F-E52A-4F04-B9AD-501D4189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ACCFA-E00F-4A01-BDA3-7788EEB3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86AD-91E8-438E-BA90-965EBA7C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0235-7218-4AA9-A8EF-4118B5D3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BB4FA-5D95-4D32-B483-7A94AD41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E1F2F-1883-417A-B9FA-778B4A29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83E91-6639-478C-91D8-4F34D170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9A680-68F0-416E-8000-E16533CE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57EF-68E5-4FF1-898E-DE4D690B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D4332-A708-4522-A126-8A3B30FF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BCC9-940A-4D13-9CBC-E86B0D5C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B5D-3FDC-4AF9-9BD5-5084A536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AAE56-A95C-4C75-BE53-AB2EA93D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EED1-9A9C-4281-AB8A-2F3837DF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ACB00-B746-4422-B09E-66F499C3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D0790-8460-4AD2-BCFB-5F81D1E9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12D59-C5D6-4C3E-B735-EA406F30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5669-91C0-4919-A216-2131B508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741A4-2E92-4208-B02E-906F4289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744A8-1F69-49A9-9D8C-642F3C78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9C4D0-FCF1-4319-B477-B73BCEF4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218E-41B4-4B96-9F10-F37362DB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7ED-1ADA-4D3E-BA79-03CB9B05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71C7F-259E-4061-8454-EA5F495E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0BEFC-2AD5-45ED-8ECC-D14A9274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4B390-C011-4EAE-BF5C-34E0171A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65F4C-A46C-4317-96D4-5A6B72A6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992B-74DA-4FD0-86D3-8C5E3D46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48A9-AE97-469F-8CA8-07FC966A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C9821-BDBA-4DEA-AE43-EA422B1F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B5DEC-BE87-491A-A17A-9748C846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4E185-7C29-4B83-8A82-A7E7CB26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E6751-91DA-409A-88D0-B62F59C9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1B0-F53F-4288-8D8C-F42FFDB5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42692-6AF1-4413-AB69-BA5EB906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0E407-E39E-4158-B351-6E80151F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52A9A-FE33-426E-BC0A-F4600803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22EA4-C135-4D61-AE9B-B6CF591D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8CD25-00F1-46D2-A8AF-3238D3CF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67DE8-71D4-48CE-AC1E-000BF931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429FB-51C1-40F5-AB64-7DE5BB1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EE4D1-06DC-4965-81C1-1E8DDF34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B1FAA-8F24-462F-B219-9670AEFB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597A4-FE54-4A16-9A44-6DD4115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162-65D6-4052-BA24-C23283A5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ADB58-02E2-4D00-899E-CCD045CF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D4161-87FE-4065-9B5A-56B272D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5DD9A-46E8-413D-8B1D-0B6A299C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88ED1-5A6E-444B-B1BF-441B1008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0A3C-7057-44ED-BD0F-C2917640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2370F-FABA-4E70-A304-58931B22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87742-74AE-4ECC-9D63-A0EBCF19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74DA2-6A6D-42EF-8D02-D787281A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25AB0-C730-4BB1-9552-C50F6C48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827A4-DAD7-48E1-BCC6-FC31979A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E60-D440-4CC8-83C0-5B3BE78A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D33C4-6037-44A0-A7F1-66CBFDFE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CAD91-9E89-47B0-A4CE-0D1E4520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8F5F8-0A6C-41C9-B8D3-6A6F868C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BDBF6-0368-4534-96C8-0237D069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377A1-3BE7-48CD-95A7-088728C9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BE79F-FC7C-44B2-AA87-C01617F0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7F97B-2451-4CD5-AA63-4102F09F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2BBA2-9F3B-43F0-9F17-C42F06F8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6E973-6A36-44CF-BDA3-FDEA93DE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394A0-A589-4AD0-B59D-0328CB1B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F5D9-3D2A-464B-990E-7465C1E0B6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3BD0-ABEA-4CD3-9B84-916769A395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9382-4303-449C-8B79-038670213F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1C72-8627-4BBC-88CB-8893FA6CE4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8728-AB97-4D9D-90D7-DD5BAB32FF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451F-E9D6-4683-86E0-6F8E95E30FC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A548-E5A2-484F-9008-8A212D1CF9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6126-4697-4C08-A58F-10E643982B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340C-4EAA-4465-A0DD-398D915811F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8341-CF4A-4F9C-99DF-FDD5957DCB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7A51-934D-487B-8E5A-F969B1B481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55FD-B9A0-4FE4-B273-9D6BF2FC63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41 Pole sveta podľa Slo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le sveta podľa Sl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ýchlo k žatve dozrie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ýzva tvoja, Pane, zn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práci žencom zazni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sa kráti, blízko je n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ti čas míňa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žatvy, pošli po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tedro otvor nebes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buď poslov svojej zve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nieť v srdciach viery pl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om svätej horliv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čeliť nástra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sa kráti, blízko je n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ti čas míňa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žatvy, pošli po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tedro otvor nebes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bdar zástup svojich ženco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ou Ducha z výs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ich službu lásky venc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meníš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sa kráti, blízko je n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ti čas míňa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žatvy, pošli po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tedro otvor nebes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5:57:02Z</dcterms:modified>
  <cp:revision>46</cp:revision>
  <dc:subject/>
  <dc:title>Je veľký náš Pán, on slávy je Kráľ Nech do všetkých strán  spev vrúcnych znie chvál.</dc:title>
</cp:coreProperties>
</file>